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002-93A4-4D73-AA16-BCC1A9B5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59B-D7A3-4B7D-9C8D-A3BF5A97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414-CFE2-4F0C-B909-8B55F7D3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F7F-22BE-4821-BF08-7EE4F148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174-C8FB-4CC4-9F20-9CBC01FB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0BA-68B8-4D6B-9DBC-411D46D5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995-AA3D-4400-B050-C139BF25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6BC-D381-48AC-9732-382E6ACB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FDD-B08B-493A-9CF8-7D44C42B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0B1-76E8-41BA-A5C5-41566832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9B6-9B1E-4CE7-9F42-E80F4F8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55A-C7BF-4ADD-930D-EF5D3D4F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4372-FB7E-47AB-8E54-136C7AF07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quency Control Task For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ation to W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9, 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:  The WMS refers PRRs 607 One-Minute Ramp Schedules and 608 Improve Ancillary Services Performance Conditions to the QSE Managers Work Group with the charge to develop a recommendation to WMS in concert with QMWG’s ongoing work on multiple ramp rate fea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DED-0A0A-4625-9CB8-76FBF5289C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:  The WMS charges the Frequency Control Task Force to continue its work developing an ancillary service for governor response to improve primary frequency control in ERCOT. The FCTF should present a draft PRR creating a GRS at the September WMS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7B3-BC0B-48D9-A54C-8093C0B69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the SCE component of the frequency iss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 1: Keep the Status Quo (PRR 52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 2: Modify the Status Quo (PRR 629 or 66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 3: Create new SCE performance measure and incentive / penalty mechanism (PRR 586 or 65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17E-0393-416C-9B11-76FA2EB12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on to implement Option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A7E-673E-4057-A678-B99C896D25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on to implement Option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703-86F5-4F28-A42A-9354343040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on to implement Option 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507-B281-499F-9802-7FA80B55A7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PRR 662 in light of earlier decisions made on the appropriate SCE performance measure and compliance reg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4FE-C99B-4F62-99A0-D3656789B0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Items for 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28B-B801-47AD-AA27-8DDBEA06F0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Issu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frequenc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-base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s 356, 3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5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5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market incentives for good S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317-8E64-4D6D-9D36-FF4C057FDB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TF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work of ROS and PDC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market solution to frequency issue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6AB-E052-48E2-A3BB-3E8000E18D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Examined by FCT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of SCE to poor frequenc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of SCE to regulation procurement 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of load swings and load forecast error to regulation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obligations / incentives to provide primary frequency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99A-37AC-453E-BF17-7F4C8061D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Examined by FCT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incentives / penalties for SC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trollable Renewable Resource forecas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of ERCOT regulation signals and their impact on the QSE SC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PRR 525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E63-7DD8-467D-8F05-7BF50FEFF6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ly define each of the problems associated with primary frequency control, secondary frequency control, and Regulation Service procurement and deplo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ly define the goals of market solutions to the frequency and regulation problems identified in #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Protocols Sec. 6.10.6 to more appropriately reflect the intervals which should be measured in each QSE’s SCE calcu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11A-306E-44CF-85C5-4381DC33E6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the existing SCE compliance regime to better align commercial incentives with performance goals and market realit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a recommendation on PRR 586 to P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ge the QMWG to review PRRs 607 and 6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work of the FCTF to develop market solutions to ensure adequate governor response to directly address primary frequency control proble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889-1E2F-421B-BE37-09D1910E89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items for W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586 – recommendation to 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607 – refer to QMW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608 – refer to QMW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649 – recommendation to 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656 – recommendation to 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661 – recommendation to 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662 – recommendation to 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charge to FCTF to develop commercial solution to primary frequency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ACF-0C7B-4C8B-9AD5-2F6FAEB3A9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5:48:35Z</dcterms:created>
  <dc:creator>Mark J. Bruce</dc:creator>
  <dc:description/>
  <dc:language>en-US</dc:language>
  <cp:lastModifiedBy>Mark J. Bruce</cp:lastModifiedBy>
  <dcterms:modified xsi:type="dcterms:W3CDTF">2006-04-19T16:31:12Z</dcterms:modified>
  <cp:revision>7</cp:revision>
  <dc:subject/>
  <dc:title>Presentation to WMS </dc:title>
</cp:coreProperties>
</file>